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415-D52E-4A88-9623-872B1EA7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7DF-E827-46BB-932E-E7829C1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4A8-05CB-4000-98D8-0A1B47D2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E9A-1A64-4319-95DF-7BBE0913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91E-38BF-41DD-8A62-AC953858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56F-4558-4472-9950-14D9223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28E-D481-422D-A847-8E103C22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98D-6323-4572-AC48-9C54C24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47C-EE55-4901-9952-664C9D98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1AA-56BA-41D8-8EDD-A6592D4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020-EE4E-4DC9-A320-D12049B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948-8B72-4CB9-99DB-EC83F8A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7EB-13FF-496A-A630-195888980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Anaerobic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aming and grouping organisms according to their characterist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history of an organ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og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6 different kingdo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thermop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-loving 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halop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-loving 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ethano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aebacteria that produces meth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ost common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ing up the environment by using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eme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nd shaped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ill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student.ccbcmd.edu/courses/bio141/lecguide/unit1/shape/images/gram_ecoli2_scale_final.jpg"/>
          <p:cNvPicPr/>
          <p:nvPr/>
        </p:nvPicPr>
        <p:blipFill>
          <a:blip r:embed="rId1"/>
          <a:stretch/>
        </p:blipFill>
        <p:spPr>
          <a:xfrm>
            <a:off x="4038480" y="3251160"/>
            <a:ext cx="48769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ri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student.ccbcmd.edu/courses/bio141/lecguide/unit1/shape/images/svol1_scale_final.jpg"/>
          <p:cNvPicPr/>
          <p:nvPr/>
        </p:nvPicPr>
        <p:blipFill>
          <a:blip r:embed="rId1"/>
          <a:stretch/>
        </p:blipFill>
        <p:spPr>
          <a:xfrm>
            <a:off x="4114800" y="1219320"/>
            <a:ext cx="4498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the first to classify organisms; he classified them according to where they l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gram stain type is this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www.microbelibrary.org/microbelibrary/files/ccImages/Articleimages/Buxton/06%20Intraabdom/gram-positive%20cocci%20gram-negative%20coccobacilli%20fig5.jpg"/>
          <p:cNvPicPr/>
          <p:nvPr/>
        </p:nvPicPr>
        <p:blipFill>
          <a:blip r:embed="rId1"/>
          <a:stretch/>
        </p:blipFill>
        <p:spPr>
          <a:xfrm>
            <a:off x="3733920" y="1828800"/>
            <a:ext cx="49035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gram stain type is this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://bioweb.uwlax.edu/bio203/s2008/jaedike_alic/gramnegpic.jpg"/>
          <p:cNvPicPr/>
          <p:nvPr/>
        </p:nvPicPr>
        <p:blipFill>
          <a:blip r:embed="rId1"/>
          <a:stretch/>
        </p:blipFill>
        <p:spPr>
          <a:xfrm>
            <a:off x="3733920" y="205740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bacteria show up gram pos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ptidoglycan in their bacteria w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 used to grow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an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ative an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File:Anaerobic.png">
            <a:hlinkClick r:id="rId1"/>
          </p:cNvPr>
          <p:cNvPicPr/>
          <p:nvPr/>
        </p:nvPicPr>
        <p:blipFill>
          <a:blip r:embed="rId2"/>
          <a:srcRect l="0" t="0" r="38160" b="0"/>
          <a:stretch/>
        </p:blipFill>
        <p:spPr>
          <a:xfrm>
            <a:off x="4724280" y="2666880"/>
            <a:ext cx="3581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le mea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can m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l medi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hows different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medi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 grow certain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look at bacteria under a microsco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reproduction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one bacteria gives its genetic material to another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lassified organisms based on their morpholog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ne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t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anobacte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user.uni-frankfurt.de/~schauder/cyanos/image9.jpg"/>
          <p:cNvPicPr/>
          <p:nvPr/>
        </p:nvPicPr>
        <p:blipFill>
          <a:blip r:embed="rId1"/>
          <a:stretch/>
        </p:blipFill>
        <p:spPr>
          <a:xfrm>
            <a:off x="3276720" y="228600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heterocy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ized cyanobacteria that fixes nitr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trophication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hemicals accumulate in a body of water therefore increasing the number of cyano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anobacteria are eaten by heterotroph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oxygen levels go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spiroche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al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is found in soil and form branching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nomyc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ic bacteria belong to what phyl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hemo-autotroph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uses chemicals to produce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of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xins that are made from gram-positive bacteria that are still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ox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xins from gram-negative bacteria that have d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ox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seven layers of classif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fungi and mold make antibio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icroorganisms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some bacteria develop a resistance to certain antibiot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used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ight excrete enzymes that break it down or change their cell wall so antibiotic can’t 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ree ways bacteria are usefu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eme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the scientific name of an organ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 + species; italicized or underl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naming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omial Nomenc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species in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Phylum in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species in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19:07Z</dcterms:created>
  <dc:creator>Student</dc:creator>
  <dc:description/>
  <dc:language>en-US</dc:language>
  <cp:lastModifiedBy>Student</cp:lastModifiedBy>
  <dcterms:modified xsi:type="dcterms:W3CDTF">2010-04-15T13:58:41Z</dcterms:modified>
  <cp:revision>2</cp:revision>
  <dc:subject/>
  <dc:title>Slide 1</dc:title>
</cp:coreProperties>
</file>